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210-E764-41A5-9500-B0E3335F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22B-A6F5-4D2F-91C0-D4F5DFA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D59-C23D-44F4-A368-D26E624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34A-54BD-4321-9A78-EE796A1B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88B-5019-46CB-A42A-00757705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2C7-4980-4957-B0E7-DF58C26F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3B9-7D9D-4C33-AEE6-DE549E7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A850-A9EA-45D1-B343-B007F03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F652-5519-4A6B-9216-0176C68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A47F-50E5-47F3-B7D2-24D39FC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BED-BDCF-4CB5-A426-48C49B8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37A-A162-4210-84EF-C7F6C28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0ADE-7AA6-4C89-AEBA-83A408C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8782-4F48-46B7-949F-D7909DC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A7CF-DAD8-413C-BE2A-0F2E4A74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9EA4-EB3F-40AF-838D-7657B73E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5A54-A7F3-4DE6-BDD1-204DB32E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585-BDD5-4ADD-988D-B179BC63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8B1-7A26-4E66-BC82-D2BF78C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B5F-0376-4FA8-8950-E66210C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6A4-9E9E-4E3F-BDA7-C557C81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CB7-6E6F-4B68-A06A-070228D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F22-4B01-4F41-89B3-16FEAC8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8C8-5AFF-48A9-BAEE-250763F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A4E-F5A9-4957-96FA-B8714ADBD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F5E-F115-4ABD-81C8-E78A78E5D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ill There Was No Remedy”</a:t>
            </a:r>
            <a:br>
              <a:rPr sz="4400"/>
            </a:b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Judah Al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68-1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24-25; Jeremiah 38,40-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0EE-3415-4619-9A80-B0BD1CC537E0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ould They Go To Egyp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ews wanted to escape from the Babylonians by way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inquired of Jeremiah and swore to do whatever God comma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in to their fear of Babylon over their fear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mpelled Jeremiah to go to Egypt –Jer.43:1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ought that he may have died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4E9-FBD6-434D-99A9-5778806B626F}" type="slidenum">
              <a:t>10</a:t>
            </a:fld>
          </a:p>
        </p:txBody>
      </p:sp>
    </p:spTree>
  </p:cSld>
  <p:transition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Rejected War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listen….” Jer.44:15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o everything we vowed…” (It will be business as usual) - 17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entirely consumed -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of, the king of Egypt will be given into the hand of his enemies - 29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9AC-ED53-4EFE-99CB-E2D98D407520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hron. 36:16 (KJV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mocked the messengers of God, and despised his words, and misused his prophets, until the wrath of the Lord arose against his people,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ll there was no reme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474-E922-4840-9106-80BC1036A72A}" type="slidenum">
              <a:t>12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Fall of Jerusalem</a:t>
            </a:r>
            <a:br>
              <a:rPr sz="28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    2 Kgs.24:18-20; 2 Chron. 36:13-21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Reigned in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twenty one when he became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igned eleven year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wha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v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sight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Nebuchadnezzar for nine years and then rebelled depending upon Egypt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 Babylonian army starts the siege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CE0-77A0-43ED-9F13-FEEA7D344405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28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preached during the sie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that abides in this city shall die by the sword, and by the famine; and by plague but he that goes out and surrenders to the Chaldeans that besiege you, he shall live…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r. 21:9-1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He was threatened with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772-CFF4-43E2-9BCE-418382111E96}" type="slidenum">
              <a:t>3</a:t>
            </a:fld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40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Zedekiah (Jer. 21:3-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I will not be with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Your weapons will be in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I will be fighting on the Chaldeans’ sid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“I set before you the way of life, and the way of death” (Jer. 21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A9E-6E87-49A1-B4B3-21A1EB3585AB}" type="slidenum">
              <a:t>4</a:t>
            </a:fld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40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also told Zedekia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’s army which is come forth to help you, shall return to Egypt into their own l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he would see Nebuchadnezzar with his eyes, speak to him face to face, and die in peace in Babylon  without seeing the c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r. 32:4; 34:1-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leaders begged Zedekiah to kill Jeremiah because of his call for them to  surrender to the Chald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A17-9B42-4B6B-9B15-535AF2D1BF1B}" type="slidenum">
              <a:t>5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Jeremiah In the Dungeon</a:t>
            </a:r>
            <a:br>
              <a:rPr sz="36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Jeremiah 38:1-28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again urged Zedekiah to surrender or Jerusalem would be burned with fire and he would not escape (Jer. 38:17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was lowered into the dungeon of Malchijah with no water and sank into a muddy m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ed-melech, an Ethiopian eunuch in Zedekiah’s house, rescued Jerem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was afraid and would not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B9F-36EB-4241-A883-F481578E5360}" type="slidenum">
              <a:t>6</a:t>
            </a:fld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ie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watched his sons be k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’s eyes are goug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Babylon with his eyes put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had said he would see the king of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iel had said he would be taken to Babylon but not “see”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24C-025B-4008-AFFF-BD2FE55EBA2C}" type="slidenum">
              <a:t>7</a:t>
            </a:fld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ie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was plundered and bu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e wa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ives taken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very poor wer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writes Lamentations – see 1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899-5207-4A98-B001-3EFC5F3915BB}" type="slidenum">
              <a:t>8</a:t>
            </a:fld>
          </a:p>
        </p:txBody>
      </p:sp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edaliah Appointed Governor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Kgs.25:22-26; Jer.40-44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 promises him peace if he submits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in a short time he was assassinated by Ishmael, an army cap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anan had warned Gedaliah – Jer.40:13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EEE-D04A-4236-8627-703602401D00}" type="slidenum">
              <a:t>9</a:t>
            </a:fld>
          </a:p>
        </p:txBody>
      </p:sp>
    </p:spTree>
  </p:cSld>
  <p:transition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2:21:08Z</dcterms:created>
  <dc:creator>Terry W. Benton</dc:creator>
  <dc:description/>
  <dc:language>en-US</dc:language>
  <cp:lastModifiedBy>Frank D Vines</cp:lastModifiedBy>
  <dcterms:modified xsi:type="dcterms:W3CDTF">2006-03-31T13:38:22Z</dcterms:modified>
  <cp:revision>16</cp:revision>
  <dc:subject/>
  <dc:title>Till There Was No Remedy Divided Kingdom - 2</dc:title>
</cp:coreProperties>
</file>